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78899"/>
        <c:axId val="65444063"/>
      </c:barChart>
      <c:catAx>
        <c:axId val="48478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44063"/>
        <c:crosses val="autoZero"/>
        <c:auto val="1"/>
        <c:lblAlgn val="ctr"/>
        <c:lblOffset val="100"/>
        <c:noMultiLvlLbl val="0"/>
      </c:catAx>
      <c:valAx>
        <c:axId val="65444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78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9C5-7497-45D8-B395-4CCF47C0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961-C0E9-4975-AE6A-7429FF54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22A-8BC1-4EFC-B758-A843BC77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CDA-6189-4FDC-9D14-362D28D9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667-241A-41B9-9DEF-30293821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710-ADC8-455C-BE83-63B1556C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AF7-35F9-41C6-A1E7-E283A434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4E1-3231-4E2E-B550-4BEAF8EB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110-239F-408A-8180-A1ABD9F1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969-3B98-47C3-B2A6-4CD890F7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A7E-82F2-48F7-8DBB-83DE4D6F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4C4-7181-4638-898A-D6038818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0D659-2CC3-4D83-AC25-08F08D36D6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