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128527"/>
        <c:axId val="27616240"/>
      </c:barChart>
      <c:catAx>
        <c:axId val="891285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16240"/>
        <c:crosses val="autoZero"/>
        <c:auto val="1"/>
        <c:lblAlgn val="ctr"/>
        <c:lblOffset val="100"/>
        <c:noMultiLvlLbl val="0"/>
      </c:catAx>
      <c:valAx>
        <c:axId val="27616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285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E92-B22C-410E-9417-41CDF84C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B55-D2AA-4424-9BDB-7EB7BE00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C38-8ECA-48C4-A60C-B5A82BEA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C26-8455-4F64-83D0-FFDD0264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831-8B81-47E8-BD0A-4D4A22C3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B96-E2A4-4637-A517-36ACCF83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7A5-8E7F-4010-801A-7C2655EF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B05B-C786-4DBF-871E-304F5FF6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8536-4C9F-4DDC-BE08-AC6E83E5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B89-3F4A-4998-8B01-3E8DA0AF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2BD1-E024-4818-A5F7-634333BE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787-3F67-4F41-A811-137C83D0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B9278-8B78-451C-BF1E-F10D536E3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