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95128"/>
        <c:axId val="985097"/>
      </c:barChart>
      <c:catAx>
        <c:axId val="58995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5097"/>
        <c:crosses val="autoZero"/>
        <c:auto val="1"/>
        <c:lblAlgn val="ctr"/>
        <c:lblOffset val="100"/>
        <c:noMultiLvlLbl val="0"/>
      </c:catAx>
      <c:valAx>
        <c:axId val="9850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95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C40B-3BE0-4FF9-A60E-2ADD125D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4C81-A454-40F4-B7C9-50DACFC7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5D42-E779-47AC-A4B2-F1E5D5F25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4C4-85B7-4677-AC3D-78DEF22D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5FFD-C70E-4895-A14C-2E50BBAA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9D1A-AC7C-43E9-BC4A-E93C4B399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11D-D453-49B7-BAAE-8BA4BEF6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C95C-BD43-47A8-A5DA-36668217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FFB5-39A3-4568-B039-2D43118C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4ACE-241A-401F-9D88-84C13106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5813-8A06-4B3D-8093-9519961C0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5397-E543-4A72-AABA-A43AC50F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77DE54-55E7-4649-A94E-3B5C1EB04E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