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935937"/>
        <c:axId val="25336716"/>
      </c:barChart>
      <c:catAx>
        <c:axId val="59935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336716"/>
        <c:crosses val="autoZero"/>
        <c:auto val="1"/>
        <c:lblAlgn val="ctr"/>
        <c:lblOffset val="100"/>
        <c:noMultiLvlLbl val="0"/>
      </c:catAx>
      <c:valAx>
        <c:axId val="253367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935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6B37-7F52-4F13-8962-AEE0203F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7A04-CEC5-43CC-8410-F58D5E14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9B4-4B72-4C56-9172-A3024F78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4373-FE44-4865-A750-5C422790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780-6DD1-4F7A-B0DA-E06D4F6A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7FFC-3290-4426-B9FA-1D50F7C85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1BA3-57AB-43CD-AE5A-8E2DE8DD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03E-D896-4CE5-A429-EC340FBC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7A48-6185-44EE-AE85-C7F3616C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6EED-169F-497A-A15C-C4DFC97A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66CF-4040-4EB3-B3FC-A935AC4D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6DD-2E5B-4831-8A42-5EC4A8588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712A7-F624-418E-9488-12970A2BF2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